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0.jpeg" ContentType="image/jpeg"/>
  <Override PartName="/ppt/media/image11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comments/comment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1b25" initials="1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<Relationship Id="rId15" Type="http://schemas.openxmlformats.org/officeDocument/2006/relationships/commentAuthors" Target="commentAuthors.xml"/>
</Relationships>
</file>

<file path=ppt/comments/comment8.xml><?xml version="1.0" encoding="utf-8"?>
<p:cmLst xmlns:p="http://schemas.openxmlformats.org/presentationml/2006/main">
  <p:cm authorId="0" dt="2015-03-30T14:10:55.311000000" idx="1">
    <p:pos x="262" y="1239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7F59-47B5-441D-B974-81944D7E6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4A05-AEC2-4F9A-94E6-DEFEC6BE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D2A1-D15C-44C8-A383-F85EDA21C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22FC-A73A-4827-800E-9FD567E4C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1432-0DEA-4134-9BC3-3C4253FBB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C8F8-8860-40AF-BA81-AB8FE893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A1DB-D830-40E5-B8B5-4015DFE0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E577-DA10-407F-B030-41E6D8E2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941E-4B3C-4ED1-B5B0-04C8AB37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E0F8-C3CC-4FF9-B712-25AB1BB7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B7655-08F2-4917-B438-2EC83027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0903-5B33-4229-BDBC-0F6D90BA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0F10-34CE-4C1C-ADB7-7167CF5F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86C2-D374-45E5-A38B-EB05DB4C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CEF0-1C91-428B-AAAF-F41023E3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6E70-FF9A-4A9B-84E2-B06784170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D4AA-D2A8-468D-98E6-91759152B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FAC4A-1685-47F3-A281-175BD7ED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31EFB-45A1-47AC-9662-739EEA08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4BBDD-B0DD-4B00-BAA6-CB89771C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DE175-E7D6-4839-94BD-FDF4B86C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5B104-39F4-41D9-A167-1245684F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43D5-C13A-4840-A22A-6F7B456D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F93E2-DBEB-41FA-AC70-296C4F7E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7C1C6-1085-4658-80C2-2D6E721B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1C655-286F-474A-A024-8140C193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ED1F2-C018-4A9E-A00E-7C05CF00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8590B-E927-4A18-9F2E-7AB746FC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A97E2-7F44-413B-87F2-395EACD90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2FA43-1FC1-45CB-93BD-C0500B713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C76A4-F124-4BD9-B956-1952CAD5F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E6A76-EF87-4BB9-88F9-12B99F6A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B817C-6742-49BD-B05B-7596C802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1E59-C4E1-4761-9F25-10DD474D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FA83C-7AA5-46E2-B54F-6C67C3AF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C765D-A39E-4DA9-ACCF-C90FDF23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903EF-4DC8-4EEF-B453-BD9D63F5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DE5E2-ED3F-43B2-B221-9FBABB3A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09116-3DF7-4270-9B7D-08362805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36288-5831-43B4-8501-6006E7AE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FF62D-0155-48B7-8B5F-D5E6584F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13307-872C-4133-AE30-9FC3B8FB0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A39D1-8399-4C66-B826-05F1484DD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5BD9-11D9-49C1-8E58-F0C76705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E6BA-4EA9-49E4-B764-76FD3893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AD98-3CE9-49B4-931E-CF5ED480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7B0B-67FE-4467-82F7-72E5580F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35A4-AC66-42C1-90BB-6EAE9D77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0357-1E39-4464-B776-794DCC6AE4CE}" type="slidenum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A341-D68C-40CC-AAE3-D7400D83727D}" type="slidenum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B0BC-689D-4CFA-B382-C4969B1B3BDC}" type="slidenum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EBF1-B3EB-4C52-A9D7-1AE7ED6FB986}" type="slidenum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bing.com/videos/search?q=bats+for+kids&amp;form=HDRSC3&amp;first=1#view=detail&amp;mid=5EC40DD39F694864077C5EC40DD39F694864077C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th?id=HN"/>
          <p:cNvPicPr/>
          <p:nvPr/>
        </p:nvPicPr>
        <p:blipFill>
          <a:blip r:embed="rId1"/>
          <a:stretch/>
        </p:blipFill>
        <p:spPr>
          <a:xfrm>
            <a:off x="395280" y="189000"/>
            <a:ext cx="8113680" cy="6346800"/>
          </a:xfrm>
          <a:prstGeom prst="rect">
            <a:avLst/>
          </a:prstGeom>
          <a:ln w="0">
            <a:noFill/>
          </a:ln>
        </p:spPr>
      </p:pic>
      <p:pic>
        <p:nvPicPr>
          <p:cNvPr id="196" name="Rectangle 6" descr=""/>
          <p:cNvPicPr/>
          <p:nvPr/>
        </p:nvPicPr>
        <p:blipFill>
          <a:blip r:embed="rId2"/>
          <a:stretch/>
        </p:blipFill>
        <p:spPr>
          <a:xfrm>
            <a:off x="536400" y="1371600"/>
            <a:ext cx="785196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4643280" y="1220760"/>
            <a:ext cx="3726000" cy="53737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000" spc="-1" strike="noStrike">
                <a:solidFill>
                  <a:srgbClr val="ff0000"/>
                </a:solidFill>
                <a:latin typeface="Calibri"/>
              </a:rPr>
              <a:t>Different kinds of b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8360" y="1412640"/>
            <a:ext cx="3672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re are over 900 different species of ba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Bats make up one fifth of the world's mamma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10920" y="333360"/>
            <a:ext cx="8002440" cy="122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600" spc="-1" strike="noStrike">
                <a:solidFill>
                  <a:srgbClr val="ff0000"/>
                </a:solidFill>
                <a:latin typeface="Constantia"/>
              </a:rPr>
              <a:t>Baby Bats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Content Placeholder 6" descr=""/>
          <p:cNvPicPr/>
          <p:nvPr/>
        </p:nvPicPr>
        <p:blipFill>
          <a:blip r:embed="rId1"/>
          <a:stretch/>
        </p:blipFill>
        <p:spPr>
          <a:xfrm>
            <a:off x="2268360" y="0"/>
            <a:ext cx="4607280" cy="68612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20520" y="2060640"/>
            <a:ext cx="9144000" cy="3951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Constantia"/>
              </a:rPr>
              <a:t>During spring, bats return from migration or awaken from hibernation and the females begin having baby bats called pup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Constantia"/>
              </a:rPr>
              <a:t>Bat pups are tiny when born, but grow up fast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Content Placeholder 3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147160" cy="146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70c0"/>
                </a:solidFill>
                <a:latin typeface="Constantia"/>
              </a:rPr>
              <a:t>Egyptian Fruit Bat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0" y="23760"/>
            <a:ext cx="914400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000" spc="-1" strike="noStrike">
                <a:solidFill>
                  <a:srgbClr val="00b0f0"/>
                </a:solidFill>
                <a:latin typeface="Calibri"/>
              </a:rPr>
              <a:t>Bats Bats Ba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771640" y="1600200"/>
            <a:ext cx="36720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Preview not availableBats, Bats, Batschildren's song "Bats, Bats, Bats" sung by Rosie Emery featuring a variety of photos of bats128,000+ views·18/10/2009YouTube/Susan McCla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000" spc="-1" strike="noStrike">
                <a:solidFill>
                  <a:srgbClr val="04617b"/>
                </a:solidFill>
                <a:latin typeface="Calibri"/>
              </a:rPr>
              <a:t>Bat Wing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79280" y="1699920"/>
            <a:ext cx="878544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Bat wings are made of two thin layers of skin stretched over the bat's arm and fingers.  Bats have a thumb and four fingers, just like peop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1" descr="http://api.ning.com/files/jsbdx1M0bPtamia10xc6455PuIkuvvm*eDZw7qUWnEN*pkCC9kbCZ*w01rFe4Uhk1sPr7ycz-7b6NETHTlx0oeabT0Vbze9b/babybats.jpg?width=634&amp;height=399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2124000" y="549360"/>
            <a:ext cx="46548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200" spc="-1" strike="noStrike">
                <a:solidFill>
                  <a:srgbClr val="ffc000"/>
                </a:solidFill>
                <a:latin typeface="Constantia"/>
              </a:rPr>
              <a:t>I hope you like Bats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2T20:39:24Z</dcterms:created>
  <dc:creator>1b25</dc:creator>
  <dc:description/>
  <dc:language>en-US</dc:language>
  <cp:lastModifiedBy>1b25</cp:lastModifiedBy>
  <dcterms:modified xsi:type="dcterms:W3CDTF">2015-03-30T01:17:36Z</dcterms:modified>
  <cp:revision>21</cp:revision>
  <dc:subject/>
  <dc:title>Bats</dc:title>
</cp:coreProperties>
</file>